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E80-586E-4B1D-A66F-4B24FA9C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5CB-6DD8-4D54-8A73-B108355B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5AC7A-BD18-48EB-9CB3-E9184E3A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3E510-78E2-4D7B-AFCF-F01A0C71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60F32-3EA8-4792-AC4C-1C37D5D0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A10ED-537B-4744-B3D5-92371B7A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2D55D-6A64-45A4-A0C2-C2D72779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FE9C6-17B4-48D5-8AC2-92EFACD3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E4964-DBE4-4EC4-BDF2-4C8B3E1F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3AE66-646E-4A76-8824-0BCE3B6F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851F6-6126-406B-8A96-CAD3C143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8DFFC-A885-4E7D-9186-245B3DC6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3CE-C79E-4FE3-BF7A-C50910E0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A8E8D-61B6-442D-BCD6-8F5E4D2F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E4AB0-B057-449F-875D-58ACB0A9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D90F0-108B-4B44-98B4-E680440E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5B32D-F01C-46FA-A07E-2B65901B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A20D2-B6A0-4490-B9E0-9A6FAAB3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55018-94DD-47F1-898D-95E4F4D1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EB0E6-66A3-40D1-AF8B-AB5E7B19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93F30-FCC2-48B5-98FF-2F835DF6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DA556-6084-45F4-8D63-589221D4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BB55C-8DC9-4651-A16F-03415C9E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7F1-B8EA-40F2-B012-65A2F0C5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3FC13-5D68-4D8B-9ADB-E84CB64A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CA56-EE4D-4237-AB5B-94558F2F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DA92-AD7A-4F95-BBB7-C929BF56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A058-1C62-466F-B4B8-A6C70A55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2F39-1455-46E9-B5CC-DE44576B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7F18-B3F0-4CEC-881E-633595DE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49A0-6A56-4C63-A46C-3E9B0F7F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2299-2B0C-40C3-B1E6-B0BFA988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32C-13AF-477D-A355-24E50F5A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5C3A-47EB-4260-8CB5-E5E40F38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FBAE-70C3-4D27-9E2C-F241C74B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016E-2869-41C7-AEF3-A3610BB9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AA06-8FBB-49DE-9069-90B5D099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2F8D-7AD7-418C-B2CB-2C109E6C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5055D-7118-4ED8-A81D-03AA2B27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B5205-50D3-4CC4-BA49-5062A7DE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6BB5D-F790-4A0B-A0C6-ABB9AA4B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B620D-21FE-4487-9CAA-E368818D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5AE56-ADFE-4FAE-B52F-E3245849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124-7D59-48BB-B615-65D0F2EC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EDD39-AC8A-4BCD-83C7-976709D8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24C5E-C312-4D13-88C3-C3F6EBF0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E7277-9046-49A1-9EB8-64E63C6F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31C1F-8C42-4635-B1A3-F3A57758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81753-A4D5-4633-9370-8D7E744A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0BA3C-2376-4503-A3FB-6B49829F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152A9-9C90-4A4F-A9BF-914A6B47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58B07-1D06-4231-8DBD-F3B01E6F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DAFE5-20E8-490E-8330-F5B5598A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1B7FF-F9FC-415B-AD4E-8A6E58CC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EBB-8C7F-4B7D-9E25-AFD417BF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3CE10-5609-457C-9D65-450E9038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36739-7368-48BE-A534-DCD9B436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9CE4F-A203-4B2B-A16E-85D01035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6853E-EA6B-46B0-8F07-785B9E56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05689-3708-4397-BE13-09AF4C03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E98FE-9845-47A1-8FEB-D7C5ACF3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66ED5-1434-4902-BA7A-0D1793D6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34D91-F17E-4866-913B-33286F97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EAF02-039F-4A75-9D5F-31298F0F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F8762-B50A-499E-9EB9-3C379FA8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76A-7737-4364-AA17-5C800EE9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89CD7-68F0-45F3-9E13-80EBD5C6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15EC6-69EC-49EC-B0B6-C106E01F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81012-7A2C-4566-BAD6-A92A3DF3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6762F-8A50-43DC-8D0C-0E811F52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E4F97-38F1-47FC-A5F8-01F92F47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40096-C3D3-4425-A16D-0FB64E12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CB7D1-8110-469D-86FB-38A8B00C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529D5-A4D1-41FA-A6CF-045D9F8C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14972-AE60-47ED-BC6A-A3D97333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22383-EC78-407B-A5F5-3BC45258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5141-5B5F-41B3-91DD-7D81AA29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D6A3A-892F-46A9-A5F0-07C8991A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B3479-91F4-4ED1-A207-7A547756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AD250-632A-4A1B-BE86-ADA83DF5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EA0FB-0801-4AE6-8BA5-38B7B8BB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0161B-0B23-4578-B01E-60043DB5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94FBF-8CA2-41E5-9D6E-0D31179C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3BDEF-7365-44AA-838E-32171DA0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A432A-FBF6-4DC9-B0D4-1193F2A1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B9B1D-072C-4920-9202-AF089B83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5BE35-62B4-4651-A348-3E5A10F5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812-B379-4CA1-82A7-E0110197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2B839-BAEA-40F8-83ED-D31B8EAF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3B2AB-A6A6-43B9-81CE-CCB048CB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FFC82-F997-42D6-B7C4-87BB0414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35CA6-79C4-4483-B3FF-0ED849D5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E3E9B-BB03-461B-B493-6F30C309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D9303-54F8-4FB7-AE92-26B77D4F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39F7D-B944-43A9-8507-3E16CECE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9ED20-A810-4BEE-9BCC-6B43AF5A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288D2-7D58-4857-8268-3FDC9229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73345-3441-4C40-87A4-F06174AC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B9B-7DCF-47AA-B2C6-76064F4C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2B128-DE89-4168-9463-9AC20652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9211B-1F4A-4E0C-B930-9323157A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4A2AE-8D02-49EE-B246-E370FC54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86D6E-8A20-41C0-8C1F-8F37EA46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C7A77-41BD-4A1A-99BA-BF6A01A6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5FF0D-81AB-404E-A6C2-988F58D7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EFFC5-C10C-4679-83D0-31993E5E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A63CB-C931-4C85-9D6E-23B4A962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1A3F6-0F1F-4AAF-A460-75155F5A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F0131-2DBA-4EC6-834D-50A54A3F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D07-ABE3-4E72-8FFA-1BF18587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70089-78BD-41EB-B340-5DFC2FBF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CB768-C575-407F-93FF-6FA273C2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9C0CA-EE95-4183-95B3-EE0C958F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815CD-69FC-4F7D-8881-3F381DB2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3206E-79BB-47D1-B0A1-E8D3A74C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88AA1-5602-4C90-9067-E9824005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2BA8C-41D8-4595-BC02-83D1731B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64E97-2A77-4B24-8CCC-21D8BBCE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8488F-F283-4306-B47E-AE4295A7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8B213-83D6-4EA0-87B3-A6922BC1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B00A-EE1F-4ACB-9FC4-44D03979F74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AA84-A8DC-4627-9107-725971F8EB4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0AE6-D34C-4CAE-A850-B11C7D687E9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57A3-AF56-4A27-9EE9-4E3757F27B4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96AA-0E30-490A-8F60-523F5590EFC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FE36-9715-48AD-9E84-174F8986661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DDE9-2733-4BD0-906A-57F3EA5271A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170D-F15B-47D6-9F8B-2EB67D47740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A582-092D-4163-8F72-924358B76C8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0386-832F-46EB-A3C8-27A13BD7368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2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1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안녕하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_(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주무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시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앉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erminate the following verbs with declarative, interrogative, and imperative e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입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제임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안녕하십니까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하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?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까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제임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안녕히 계십시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히 계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안녕히 가십시오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히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가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  <a:ea typeface="굴림"/>
              </a:rPr>
              <a:t>Study honorific expressions, talking up and down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peaceful, be fine, be w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yes (In the dialogue here, it means ‘I’m fine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히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dverb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계시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olite expression of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있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stay, 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종결어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Terminative Endi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서술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Declar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의문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Interrog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명령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Imper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오십시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으십시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 (Part of ending, honorific suffi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오십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으십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3498840" y="2133720"/>
            <a:ext cx="5400720" cy="28861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2"/>
          <a:stretch/>
        </p:blipFill>
        <p:spPr>
          <a:xfrm>
            <a:off x="233280" y="285840"/>
            <a:ext cx="4343400" cy="2095560"/>
          </a:xfrm>
          <a:prstGeom prst="rect">
            <a:avLst/>
          </a:prstGeom>
          <a:ln w="0">
            <a:noFill/>
          </a:ln>
        </p:spPr>
      </p:pic>
      <p:sp>
        <p:nvSpPr>
          <p:cNvPr id="505" name="직사각형 3"/>
          <p:cNvSpPr/>
          <p:nvPr/>
        </p:nvSpPr>
        <p:spPr>
          <a:xfrm>
            <a:off x="4602240" y="3049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http://classroom.re.kr/uploadfile/content/content02/second04/data03/5_3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3"/>
          <a:stretch/>
        </p:blipFill>
        <p:spPr>
          <a:xfrm>
            <a:off x="3564000" y="5157720"/>
            <a:ext cx="4781520" cy="1533600"/>
          </a:xfrm>
          <a:prstGeom prst="rect">
            <a:avLst/>
          </a:prstGeom>
          <a:ln w="0">
            <a:noFill/>
          </a:ln>
        </p:spPr>
      </p:pic>
      <p:sp>
        <p:nvSpPr>
          <p:cNvPr id="507" name="직사각형 4"/>
          <p:cNvSpPr/>
          <p:nvPr/>
        </p:nvSpPr>
        <p:spPr>
          <a:xfrm>
            <a:off x="262080" y="5924520"/>
            <a:ext cx="315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http://dlegongbuwarac.edupia.com/xmlPrint.aspx?did=20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읽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u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입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ut on, dr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보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배우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lear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만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기다리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a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주무시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leep (h.f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오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om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공부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tud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먹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쓰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rite (bitter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마시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rin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잡수시다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먹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운동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xerci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타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ide, boar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입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주무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u</cp:lastModifiedBy>
  <dcterms:modified xsi:type="dcterms:W3CDTF">2012-09-17T02:02:25Z</dcterms:modified>
  <cp:revision>61</cp:revision>
  <dc:subject/>
  <dc:title>KOREAN LANGUAGE</dc:title>
</cp:coreProperties>
</file>